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2E593-8509-405C-8C08-079FD180C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move the sl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38655-0C77-4D92-8B11-C3212E413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otate the promp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or the text names, yellow for the essential question, blue for the requirements of the 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ffu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Reading a passage, noting unfamiliar words, discovering meaning of unfamiliar words using context clues, dictionaries, and/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auruses, and replacing unfamiliar words with familia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AFT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, audience, format,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4EBA6-214B-4A72-957D-78C6607F2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AB1-933E-4EC7-937D-33901AC6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BB7-B803-4F5F-9F74-6B86779B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3A9-C5DC-4CA8-BA04-688F6C77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077-AE3E-48ED-968D-14B66650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CCE0-18DF-4AC9-946A-39BE3EEB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30CE-05FF-4B9D-B32D-5F23E63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334-C4A4-4B1B-B0A7-8863BEFB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FB1-99BE-4653-A660-6FB5C9AF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DA9B-5514-4C74-95DF-8267AD0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5130-2C11-48F8-A97B-5C3949C7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1A70-428C-4C15-B4B8-9B6B8FF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E83-CFF0-48E7-A1B0-250680E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B309-C027-43F9-93FB-C6D8C5D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36A-C52D-4B24-B256-C5323CD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18C7-CC90-4856-9DD5-365CF6C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A60-12A2-4838-8B75-1F1877AC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A06E-8577-4ADD-A110-D7AA14A8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7FA3-ED5B-4008-9A61-E747B9C0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A830-69EB-42C2-B4D1-358C7E0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A138-7064-4919-A6E8-80EA5AB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FC4A-87F7-4B16-916D-CD04BB1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0B49-4098-4E6E-86D0-0CD75BA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65D-D6F0-4E49-B5C4-224830B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0778-5005-4982-9F55-4A63BE1D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91C1-1D80-4802-A514-42758A1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86BD-82C0-40B0-AF63-CC7E9CC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6872-78F8-42C2-B08C-084F115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E8DB-B077-4A19-8A7C-1FA4960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030F-44F8-4FB3-915D-6E6963F9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179F-9E08-454B-90A4-6633E61D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E95E-9766-42F4-ABDA-CEB21419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D28B-CF6F-4AF8-A2D2-63DFA79D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EA20-D147-48D1-906C-009041C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674-ADEB-4B82-A031-57A4A1A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37DA-BB39-4AD7-83E0-A713F643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85EF-6B16-41F9-9282-7651A1C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6E63-DC96-430D-9C07-A4D621D6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C9F9-397D-4D4D-A250-24ECDDF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7E20E-DFCC-42D7-B5EA-1F1C2E28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2939-E72B-4C28-A445-92F62BC5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6C3F-A27A-4753-88E3-C77C686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F28D-AE55-4320-A799-8B139D31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4733-4774-4420-AAEB-AEC3B88B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56AC-3202-458D-9C05-EA703ADF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4D8-9AE0-445B-8520-CA3BDDB6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A4E0-2DB3-41FD-AD01-73DC79DB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2122-44F8-44ED-BADF-6E28638C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5104-B83D-4B07-9425-8C0F3322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451B-A6DD-40C3-B1AD-C238700B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71930-DF6A-4A2A-8421-7E7C6BB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D49A-1AEA-449E-ABFC-AAEDDD8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C5FB-0E86-4AD2-96DF-5E2877A0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330E-C6A7-49BF-85F5-3802BAC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AD96-D626-492F-8722-7FDD441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2656-B99C-4EF8-978F-66B07409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B0C-767C-4F81-92E9-ECB2C67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5E10-DFCF-49B0-B63B-93416213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ABEE-CF98-499B-B9F2-9CB8B081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42B1B-E102-46CB-A0DD-D1C2924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C841-2B75-4F0A-96AB-E7E80BA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18280-24D8-4684-9FF7-F1DE013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6990A-3284-4B3C-8DDE-1AA12C8A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E502-7F73-4488-BD51-87A723D0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724B-EE3D-4230-84EE-BF5E80C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7B29-0620-40F3-BE68-D2E56FB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EC00-32B4-4385-97C1-33B0997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D88-46A9-4586-A592-8A464FCF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CBACE-030D-4ED8-BE61-20870233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2B4C1-6CFF-4D1A-8EFD-5AA943EC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EE99F-4665-429A-972A-0626AE9A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55E5-718C-499A-8ADF-31BFD474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DD7AD-AB6D-4C44-A1AC-1714F9E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EB079-E361-4D2A-8C75-62C5F3D8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E1967-17E8-4167-B712-530BCFD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B498-04DE-4D69-89C5-23FF29AD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EFB1C-F8E0-4F23-ABD1-A08886E6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7AEB-C0CD-4832-9CF3-57AB9595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4BE-A3F4-4D49-BCAB-CD7198E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2707B-A7B4-4FF9-878D-1994198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F0DF3-BFD1-4068-AD1B-C00DA186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53A1-3344-4983-A970-BBDC6154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1C650-75B3-405E-87B1-654600B7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A4E1-FAF4-4E27-BD36-1E2859F4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65720-4B8B-484D-8560-AE8BF4AB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A6BB-5880-46E9-921E-745DFF0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3CE4-A540-40F9-BB88-C87A6D76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4DFC8-19F1-4946-AE1D-A1764598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2C9D-7AC0-42E8-8E9F-D79F7999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4EE-BBC8-4E10-A1AE-C7A13A7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B9D98-DA5B-4476-A52F-1DC2DCF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E0D0A-654D-4FCF-81E5-227C913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A270-BABC-4F66-BE5A-40EF79C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B6CA-1F87-47DE-B419-CB8BB014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9ED96-0DE5-4258-814D-EE792E0B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1B1BF-D3F6-44C6-8FDE-51B99E21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D86D0-E9AA-4A66-9DDF-F558650A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9D9DA-0D5C-4B42-A4DB-022C994D7B1F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9FBD6-1A43-4CDD-B7CF-2F1D754C2E6A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custGeom>
            <a:avLst/>
            <a:gdLst>
              <a:gd name="textAreaLeft" fmla="*/ 31680 w 3475080"/>
              <a:gd name="textAreaRight" fmla="*/ 3443400 w 3475080"/>
              <a:gd name="textAreaTop" fmla="*/ 31680 h 3475080"/>
              <a:gd name="textAreaBottom" fmla="*/ 3475440 h 3475080"/>
            </a:gdLst>
            <a:ahLst/>
            <a:rect l="textAreaLeft" t="textAreaTop" r="textAreaRight" b="textAreaBottom"/>
            <a:pathLst>
              <a:path w="3475038" h="3475038">
                <a:moveTo>
                  <a:pt x="108491" y="0"/>
                </a:moveTo>
                <a:lnTo>
                  <a:pt x="3366547" y="0"/>
                </a:lnTo>
                <a:lnTo>
                  <a:pt x="3366547" y="0"/>
                </a:lnTo>
                <a:arcTo wR="108491" hR="108491" stAng="-5400000" swAng="5400000"/>
                <a:lnTo>
                  <a:pt x="3475038" y="3475038"/>
                </a:lnTo>
                <a:lnTo>
                  <a:pt x="0" y="3475038"/>
                </a:lnTo>
                <a:lnTo>
                  <a:pt x="0" y="108491"/>
                </a:lnTo>
                <a:lnTo>
                  <a:pt x="0" y="108491"/>
                </a:lnTo>
                <a:arcTo wR="108491" hR="108491" stAng="10800000" swAng="5400000"/>
                <a:close/>
              </a:path>
            </a:pathLst>
          </a:cu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custGeom>
            <a:avLst/>
            <a:gdLst>
              <a:gd name="textAreaLeft" fmla="*/ 31680 w 3475080"/>
              <a:gd name="textAreaRight" fmla="*/ 3443400 w 3475080"/>
              <a:gd name="textAreaTop" fmla="*/ 31680 h 3475080"/>
              <a:gd name="textAreaBottom" fmla="*/ 3475440 h 3475080"/>
            </a:gdLst>
            <a:ahLst/>
            <a:rect l="textAreaLeft" t="textAreaTop" r="textAreaRight" b="textAreaBottom"/>
            <a:pathLst>
              <a:path w="3475038" h="3475038">
                <a:moveTo>
                  <a:pt x="108491" y="0"/>
                </a:moveTo>
                <a:lnTo>
                  <a:pt x="3366547" y="0"/>
                </a:lnTo>
                <a:lnTo>
                  <a:pt x="3366547" y="0"/>
                </a:lnTo>
                <a:arcTo wR="108491" hR="108491" stAng="-5400000" swAng="5400000"/>
                <a:lnTo>
                  <a:pt x="3475038" y="3475038"/>
                </a:lnTo>
                <a:lnTo>
                  <a:pt x="0" y="3475038"/>
                </a:lnTo>
                <a:lnTo>
                  <a:pt x="0" y="108491"/>
                </a:lnTo>
                <a:lnTo>
                  <a:pt x="0" y="108491"/>
                </a:lnTo>
                <a:arcTo wR="108491" hR="108491" stAng="10800000" swAng="5400000"/>
                <a:close/>
              </a:path>
            </a:pathLst>
          </a:cu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7B4B3-F583-4AAA-93CC-6296A282A5A4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71EE4-A066-49DF-8DE7-34A491C38750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custGeom>
            <a:avLst/>
            <a:gdLst>
              <a:gd name="textAreaLeft" fmla="*/ 31680 w 3475080"/>
              <a:gd name="textAreaRight" fmla="*/ 3443400 w 3475080"/>
              <a:gd name="textAreaTop" fmla="*/ 31680 h 3475080"/>
              <a:gd name="textAreaBottom" fmla="*/ 3475440 h 3475080"/>
            </a:gdLst>
            <a:ahLst/>
            <a:rect l="textAreaLeft" t="textAreaTop" r="textAreaRight" b="textAreaBottom"/>
            <a:pathLst>
              <a:path w="3475038" h="3475038">
                <a:moveTo>
                  <a:pt x="108491" y="0"/>
                </a:moveTo>
                <a:lnTo>
                  <a:pt x="3366547" y="0"/>
                </a:lnTo>
                <a:lnTo>
                  <a:pt x="3366547" y="0"/>
                </a:lnTo>
                <a:arcTo wR="108491" hR="108491" stAng="-5400000" swAng="5400000"/>
                <a:lnTo>
                  <a:pt x="3475038" y="3475038"/>
                </a:lnTo>
                <a:lnTo>
                  <a:pt x="0" y="3475038"/>
                </a:lnTo>
                <a:lnTo>
                  <a:pt x="0" y="108491"/>
                </a:lnTo>
                <a:lnTo>
                  <a:pt x="0" y="108491"/>
                </a:lnTo>
                <a:arcTo wR="108491" hR="108491" stAng="10800000" swAng="5400000"/>
                <a:close/>
              </a:path>
            </a:pathLst>
          </a:cu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D127B-8A16-410F-AD0D-C6616EB48278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4002F-E8D4-4260-A18A-08C329A55253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360" cy="3919320"/>
              <a:chOff x="222120" y="1254240"/>
              <a:chExt cx="342936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36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4400" y="4543560"/>
                <a:ext cx="93204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92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2350D-7407-4783-9610-4F4C0D5FF491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81A56-EE89-4F07-861D-040643A80613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B7875-B472-4848-AC8D-E7D78A52A903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286D8-48CF-4DB7-82C8-8CDE6C0147BC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12812-6308-4BC7-A317-C8DB0D7EE096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2A48-8CFC-48C2-8266-19E912E3A20B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02745-E5DF-4987-8256-C282A5131D1A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85D83-7256-4610-9AA1-32781B78A13B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1F046-A185-4AB3-9BB0-CDCE4DA16292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0E1B3-A088-4BF5-A0FA-1208597AA785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50840" y="1681200"/>
            <a:ext cx="3273480" cy="3006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s Gothic MT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News Gothic MT"/>
              </a:rPr>
              <a:t>Instructional Practices to Support Student Mastery</a:t>
            </a:r>
            <a:br>
              <a:rPr sz="3600"/>
            </a:b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650840" y="4422600"/>
            <a:ext cx="3273480" cy="5320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By Alex LaPres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018880" y="1600200"/>
            <a:ext cx="62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Rockwell"/>
              </a:rPr>
              <a:t>E = Evidence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This is the evidence from the text that supports your assertion. 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Here, you back it up (not on the dance floor)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Rockwell"/>
              </a:rPr>
              <a:t>The EVIDENCE is BLUE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693800" y="914400"/>
            <a:ext cx="65358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C = Comment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This is the commentary on the fact that connects it to the assertion and answers the question, “so what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Here you explain why the evidence is important enough to prove your asser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You should have more yellow than blue or green in your paragraph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Rockwell"/>
              </a:rPr>
              <a:t>The COMMENTARY is YELLOW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889280" y="1600200"/>
            <a:ext cx="634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Rockwell"/>
              </a:rPr>
              <a:t>R= Relate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This is where you wrap it up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Your relate should synthesize the paragraph and tell the reader how your claim supports your thesis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The RESTATE is GREEN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69920" y="321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4:</a:t>
            </a:r>
            <a:br>
              <a:rPr sz="2800"/>
            </a:b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Ongoing Formative Assessment</a:t>
            </a:r>
            <a:br>
              <a:rPr sz="2800"/>
            </a:b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376000" y="1572840"/>
            <a:ext cx="59994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Challenge: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s are unable to assess student mastery of the information until the final essay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s need multiple built-in formative assessments to assess students understanding of material and drive instruction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ssignment Check Lis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xit Slip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-student conferenc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lf-assessmen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genda: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Introduc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heck-i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4 Most Common Challenges and Instructional Practices to Ensure Succes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eer Experience and Gallery Walk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Wrap-up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Objectiv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s will increase their teaching toolbox to ensure student success on modules and mastery of the Common Core standards.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1:</a:t>
            </a:r>
            <a:br>
              <a:rPr sz="2800"/>
            </a:b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Task Analysi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360160" y="1572840"/>
            <a:ext cx="60152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News Gothic MT"/>
              </a:rPr>
              <a:t>Challenge: Students do not fully understand the prompt or what the question is asking of them. </a:t>
            </a:r>
            <a:endParaRPr b="0" lang="en-US" sz="19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Students must be </a:t>
            </a:r>
            <a:r>
              <a:rPr b="1" i="1" lang="en-US" sz="1800" spc="-1" strike="noStrike" u="sng">
                <a:solidFill>
                  <a:srgbClr val="404040"/>
                </a:solidFill>
                <a:uFillTx/>
                <a:latin typeface="News Gothic MT"/>
              </a:rPr>
              <a:t>taught</a:t>
            </a: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 how to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econstruct and internalize the promp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Understand academic vocabulary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notate the promp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iffusing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AF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e-write the promp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Ensuring Student Master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30560" y="2020680"/>
            <a:ext cx="6145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ARCC Sample Item: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00" name="Picture 4" descr="Picture 3.png"/>
          <p:cNvPicPr/>
          <p:nvPr/>
        </p:nvPicPr>
        <p:blipFill>
          <a:blip r:embed="rId1"/>
          <a:stretch/>
        </p:blipFill>
        <p:spPr>
          <a:xfrm>
            <a:off x="1795320" y="2490840"/>
            <a:ext cx="706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2: Complex Text 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14720" y="2020680"/>
            <a:ext cx="61610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Challenge: Students struggle to comprehend complex text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udents must be </a:t>
            </a:r>
            <a:r>
              <a:rPr b="0" i="1" lang="en-US" sz="1800" spc="-1" strike="noStrike">
                <a:solidFill>
                  <a:srgbClr val="404040"/>
                </a:solidFill>
                <a:latin typeface="News Gothic MT"/>
              </a:rPr>
              <a:t>taught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how to comprehend and analyze a complex text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ssential Question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hunking the tex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Multiple reads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Jigsaw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3: Academic Writing and Citing Evidence 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98160" y="2020680"/>
            <a:ext cx="61772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Challenge: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udents struggle with organization and citing strong evidence in academic writing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udents must be </a:t>
            </a:r>
            <a:r>
              <a:rPr b="0" i="1" lang="en-US" sz="1800" spc="-1" strike="noStrike">
                <a:solidFill>
                  <a:srgbClr val="404040"/>
                </a:solidFill>
                <a:latin typeface="News Gothic MT"/>
              </a:rPr>
              <a:t>taught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how to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ructure academic writing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evelop a claim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ite credible information to support their claim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xemplar student writing sampl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ECR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ECR Strateg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16080" y="2020680"/>
            <a:ext cx="62596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an be used for either constructed response or multi-paragraph essay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Great for differentiation- structured and color-code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ECR structur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774800" y="1839960"/>
            <a:ext cx="64548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Rockwell"/>
              </a:rPr>
              <a:t>A = Assertion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Rockwell"/>
              </a:rPr>
              <a:t>This is the topic sentence that relates back to the thesis or answers the questions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Rockwell"/>
              </a:rPr>
              <a:t>Here, you make an argument or state your claim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Rockwell"/>
              </a:rPr>
              <a:t>It is a clearly stated expression of purpose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Rockwell"/>
              </a:rPr>
              <a:t>The ASSERTION is GREEN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8:36:12Z</dcterms:created>
  <dc:creator>Alexandra LaPres</dc:creator>
  <dc:description/>
  <dc:language>en-US</dc:language>
  <cp:lastModifiedBy>Amy</cp:lastModifiedBy>
  <dcterms:modified xsi:type="dcterms:W3CDTF">2012-11-28T23:47:36Z</dcterms:modified>
  <cp:revision>3</cp:revision>
  <dc:subject/>
  <dc:title>Instructional Practices</dc:title>
</cp:coreProperties>
</file>